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96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244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960" y="944244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8A32-6CAF-46D6-A8A4-6A999AFE6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55960" y="944244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E124-34FB-49B3-A50A-F27F1B359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A82-F6E4-432B-8C40-DD01401B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E81-55DB-4AF3-974D-DF9A7543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57C-C90F-498D-BF2A-302465C4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64E-22D0-4531-BDB3-547081D9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C01-5B1E-4887-8B8C-BB6CEB44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FA5-1DE7-4318-8B0E-7DBD2536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187-F2FB-4BF6-9C48-2AEABE00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171-17BD-4CF7-9A72-B8793C4C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BBD-EF1C-48B7-A903-357D9585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A6B-1462-43C9-BE75-4024E649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664-F972-4525-8BF1-37E7C839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ABE-5CAF-43CF-9B24-FB84B76B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3F59-0E46-49ED-8BB1-C1DB31753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2160" y="2910960"/>
            <a:ext cx="83581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演題発表に関連し、開示すべ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I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関係にある企業等とし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①報酬額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例：なし　ｏｒ　あり（●●製薬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②株式の利益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 な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③特許使用料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 な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④講演料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 な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⑤原稿料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 な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⑥研究費、助成金等の総額：　  あり（●●製薬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⑦奨学（奨励）寄附など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あり（●●製薬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⑧企業等が提供する寄附講座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あり（●●製薬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⑨旅費、贈答品などの受領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な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595080"/>
            <a:ext cx="7772400" cy="2298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日本消化器内視鏡学会</a:t>
            </a:r>
            <a:br>
              <a:rPr sz="2800"/>
            </a:br>
            <a:r>
              <a:rPr b="1" lang="ja-JP" sz="4000" spc="-1" strike="noStrike">
                <a:solidFill>
                  <a:srgbClr val="ffffff"/>
                </a:solidFill>
                <a:latin typeface="Arial"/>
              </a:rPr>
              <a:t>ＣＯＩ 開示</a:t>
            </a:r>
            <a:br>
              <a:rPr sz="3200"/>
            </a:b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　</a:t>
            </a:r>
            <a:br>
              <a:rPr sz="2000"/>
            </a:br>
            <a:r>
              <a:rPr b="1" lang="ja-JP" sz="2000" spc="-1" strike="noStrike">
                <a:solidFill>
                  <a:srgbClr val="ffff1f"/>
                </a:solidFill>
                <a:latin typeface="Times New Roman"/>
              </a:rPr>
              <a:t>発表者名（全員記載）：　○○　○○、 ○○　○○、・・・（◎発表責任者）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※</a:t>
            </a: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過去３年間に開示すべき内容がある項目を記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正方形/長方形 4"/>
          <p:cNvSpPr/>
          <p:nvPr/>
        </p:nvSpPr>
        <p:spPr>
          <a:xfrm>
            <a:off x="304920" y="461880"/>
            <a:ext cx="8640720" cy="6197760"/>
          </a:xfrm>
          <a:prstGeom prst="rect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正方形/長方形 3"/>
          <p:cNvSpPr/>
          <p:nvPr/>
        </p:nvSpPr>
        <p:spPr>
          <a:xfrm>
            <a:off x="120240" y="3636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様式１－</a:t>
            </a:r>
            <a:r>
              <a:rPr b="1" lang="en-US" sz="2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A</a:t>
            </a:r>
            <a:r>
              <a:rPr b="1" lang="ja-JP" sz="2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7:39:07Z</dcterms:created>
  <dc:creator>c007</dc:creator>
  <dc:description/>
  <dc:language>en-US</dc:language>
  <cp:lastModifiedBy>瀬山</cp:lastModifiedBy>
  <cp:lastPrinted>2017-04-18T23:54:34Z</cp:lastPrinted>
  <dcterms:modified xsi:type="dcterms:W3CDTF">2023-03-28T00:41:39Z</dcterms:modified>
  <cp:revision>105</cp:revision>
  <dc:subject/>
  <dc:title>PowerPoint Presentation</dc:title>
</cp:coreProperties>
</file>