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560" y="744120"/>
            <a:ext cx="662940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E901-9190-48F7-B394-B114521FC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5596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6C66-E6D1-4FCF-95F8-B351DB8A7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8920" y="744480"/>
            <a:ext cx="6629400" cy="372924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FE6-A964-4839-8B10-4A74CD58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420-075D-4269-BADE-B9637291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785-47EA-4890-B83C-2209D0B3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828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2216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828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2216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6BC-6F08-477D-BD25-73092E74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335-BF8B-4006-9FC2-B1B6BCE4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627-5915-40D6-ABB7-3781DC53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5A8-9D52-436E-A1A0-5D14C9AE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597-55D4-49FA-BE08-1EE4A29A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1036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BC7-4F60-444C-ADAE-5568995C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850-EFF0-4DED-AAE9-0752F5B4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18C-C2D3-4EE9-AF29-8F853DFF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DE3-BB3A-442E-B896-E9B300F4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86D3-81A6-4734-9DA2-96CE14BA7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57120" y="2970360"/>
            <a:ext cx="967716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演題発表に関連し、開示すべ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I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関係にある企業等とし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①報酬額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例：なし　ｏｒ　あり（●●製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②株式の利益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③特許使用料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④講演料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⑤原稿料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⑥研究費、助成金等の総額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あり（●●製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⑦奨学（奨励）寄附など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あり（●●製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⑧企業等が提供する寄附講座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あり（●●製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　⑨旅費、贈答品などの受領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な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209680" y="595080"/>
            <a:ext cx="7772400" cy="2298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日本消化器内視鏡学会</a:t>
            </a:r>
            <a:br>
              <a:rPr sz="2800"/>
            </a:br>
            <a:r>
              <a:rPr b="1" lang="ja-JP" sz="4000" spc="-1" strike="noStrike">
                <a:solidFill>
                  <a:srgbClr val="ffffff"/>
                </a:solidFill>
                <a:latin typeface="Arial"/>
              </a:rPr>
              <a:t>ＣＯＩ 開示</a:t>
            </a:r>
            <a:br>
              <a:rPr sz="3200"/>
            </a:b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　</a:t>
            </a:r>
            <a:br>
              <a:rPr sz="2000"/>
            </a:br>
            <a:r>
              <a:rPr b="1" lang="ja-JP" sz="2000" spc="-1" strike="noStrike">
                <a:solidFill>
                  <a:srgbClr val="ffff1f"/>
                </a:solidFill>
                <a:latin typeface="Times New Roman"/>
              </a:rPr>
              <a:t>発表者名（全員記載）：　○○　○○、 ○○　○○、・・・（◎発表責任者）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※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過去３年間に開示すべき内容がある項目を記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正方形/長方形 4"/>
          <p:cNvSpPr/>
          <p:nvPr/>
        </p:nvSpPr>
        <p:spPr>
          <a:xfrm>
            <a:off x="390600" y="461880"/>
            <a:ext cx="11425320" cy="619776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正方形/長方形 3"/>
          <p:cNvSpPr/>
          <p:nvPr/>
        </p:nvSpPr>
        <p:spPr>
          <a:xfrm>
            <a:off x="205920" y="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様式１－</a:t>
            </a:r>
            <a:r>
              <a:rPr b="1" lang="en-US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A</a:t>
            </a: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7:39:07Z</dcterms:created>
  <dc:creator>c007</dc:creator>
  <dc:description/>
  <dc:language>en-US</dc:language>
  <cp:lastModifiedBy>瀬山</cp:lastModifiedBy>
  <cp:lastPrinted>2017-04-18T23:54:34Z</cp:lastPrinted>
  <dcterms:modified xsi:type="dcterms:W3CDTF">2023-03-28T00:14:02Z</dcterms:modified>
  <cp:revision>106</cp:revision>
  <dc:subject/>
  <dc:title>PowerPoint Presentation</dc:title>
</cp:coreProperties>
</file>