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820E-B916-48A5-A9AF-A87BB119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3832-6B79-4A50-A1C7-5385607A7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C2D-4F81-45D9-9990-D016D40D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D7C-D1C0-4380-9714-929A442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E5B-22D0-4AFA-A62D-62E5D133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8C3-8C28-4548-AA73-86FF592F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E61-4BB4-4EB6-B380-FDC8BD9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AD0-70F1-45AC-BA28-BE04E39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65E-FE3D-4E20-A781-EF72CE7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B0B-9F1D-41A9-9198-59C71EA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1D6-8C06-4B98-A50D-55E66B8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EB2-3873-4E20-954D-CE32DAB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352-432E-4408-AD48-8280CBB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377-5BFD-46BA-BC3E-878AF7B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CCE0-D049-4805-B58E-BE674A969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63360" y="1331640"/>
            <a:ext cx="8745480" cy="2708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日本消化器内視鏡学会</a:t>
            </a:r>
            <a:br>
              <a:rPr sz="4800"/>
            </a:b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ＣＯＩ 開示</a:t>
            </a:r>
            <a:br>
              <a:rPr sz="4000"/>
            </a:b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　</a:t>
            </a:r>
            <a:br>
              <a:rPr sz="2400"/>
            </a:br>
            <a:r>
              <a:rPr b="1" lang="ja-JP" sz="2100" spc="-1" strike="noStrike">
                <a:solidFill>
                  <a:srgbClr val="ffff1f"/>
                </a:solidFill>
                <a:latin typeface="Times New Roman"/>
              </a:rPr>
              <a:t>発表者名（全員記載）：　○○　○○、 ○○　○○、・・・（◎発表責任者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95080" y="4233600"/>
            <a:ext cx="92473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演題発表に関連し、開示すべ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I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関係に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　企業などはありませ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318960" y="1020600"/>
            <a:ext cx="11541240" cy="56469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103320" y="297000"/>
            <a:ext cx="239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様式１－</a:t>
            </a:r>
            <a:r>
              <a:rPr b="1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B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瀬山</cp:lastModifiedBy>
  <dcterms:modified xsi:type="dcterms:W3CDTF">2023-03-28T00:14:31Z</dcterms:modified>
  <cp:revision>102</cp:revision>
  <dc:subject/>
  <dc:title>PowerPoint Presentation</dc:title>
</cp:coreProperties>
</file>