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7A65-B0B7-4318-BB0A-7F7AD979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F07-739F-41BE-B2D8-343FAA54E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BC3-5F06-49F4-9864-2EA3EAA1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6D0-8560-4D1D-B346-59B1D203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6F4-BDCE-40C6-90E3-8BB8B317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CE4-534E-4854-9A39-38CAC776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4DA-6B79-4C05-BBBE-D3A37E8D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C29-895D-49E5-B41B-06FF5CF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A06-32E6-432F-B4FD-56CF316E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0FF-D374-4F98-8567-481A158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7DE-DC15-4F45-B0A6-4FD6FB9C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542-420E-4A08-9548-97622C5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EF1-B806-4725-8CFD-94F9C16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4C9-80A3-4A77-A4F1-711D291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DB34-59CF-411F-9380-E6CD34D4E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0680" y="1332000"/>
            <a:ext cx="8238960" cy="275112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4800"/>
            </a:b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4000"/>
            </a:b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400"/>
            </a:br>
            <a:r>
              <a:rPr b="1" lang="ja-JP" sz="21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4233600"/>
            <a:ext cx="81676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I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関係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　ある企業などはあり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289080" y="1020600"/>
            <a:ext cx="8642160" cy="5646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133200" y="303120"/>
            <a:ext cx="23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様式１－</a:t>
            </a:r>
            <a:r>
              <a:rPr b="1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B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瀬山</cp:lastModifiedBy>
  <dcterms:modified xsi:type="dcterms:W3CDTF">2023-03-28T00:40:09Z</dcterms:modified>
  <cp:revision>100</cp:revision>
  <dc:subject/>
  <dc:title>PowerPoint Presentation</dc:title>
</cp:coreProperties>
</file>