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7F03-7D14-4D51-8560-B14F7CB4A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9103-4795-48D9-A07B-E17CA610A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9C1-826E-48C1-BFDF-D51CF649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348-3E7D-4CEF-97E7-B92038DD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269-0FC4-4264-A7CB-580EAAD2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A6D-19AA-4021-AFCD-EB1537FB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FBE-5A42-499C-A82A-20C35ADA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22A-081F-470E-99D5-1502D4A3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E69-A60A-4938-86BD-0DD7A2B0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365-DBD7-4DB2-BF41-49A4F986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9B1-B9D5-4203-8F14-F8C9D3C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869-D328-4347-A4DC-28054E3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68E-7308-4B2F-9F87-E8F02B78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79D-2AEE-4D29-BD19-CA4B85F1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01D0-B337-4870-871C-CCE70D94C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0680" y="1332000"/>
            <a:ext cx="8238960" cy="2751120"/>
          </a:xfrm>
          <a:prstGeom prst="rect">
            <a:avLst/>
          </a:prstGeom>
          <a:solidFill>
            <a:srgbClr val="000080"/>
          </a:solidFill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日本消化器内視鏡学会</a:t>
            </a:r>
            <a:br>
              <a:rPr sz="4800"/>
            </a:b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ＣＯＩ 開示</a:t>
            </a:r>
            <a:br>
              <a:rPr sz="4000"/>
            </a:b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　</a:t>
            </a:r>
            <a:br>
              <a:rPr sz="2400"/>
            </a:br>
            <a:r>
              <a:rPr b="1" lang="ja-JP" sz="2100" spc="-1" strike="noStrike">
                <a:solidFill>
                  <a:srgbClr val="ffff1f"/>
                </a:solidFill>
                <a:latin typeface="Times New Roman"/>
              </a:rPr>
              <a:t>発表者名（全員記載）：　○○　○○、 ○○　○○、・・・（◎発表責任者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360" y="4233600"/>
            <a:ext cx="81676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演題発表に関連し、開示すべき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I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関係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　ある企業などはありませ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4"/>
          <p:cNvSpPr/>
          <p:nvPr/>
        </p:nvSpPr>
        <p:spPr>
          <a:xfrm>
            <a:off x="289080" y="1020600"/>
            <a:ext cx="8642160" cy="564696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3"/>
          <p:cNvSpPr/>
          <p:nvPr/>
        </p:nvSpPr>
        <p:spPr>
          <a:xfrm>
            <a:off x="133200" y="303120"/>
            <a:ext cx="239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様式１－</a:t>
            </a:r>
            <a:r>
              <a:rPr b="1" lang="en-US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B</a:t>
            </a:r>
            <a:r>
              <a:rPr b="1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7:39:07Z</dcterms:created>
  <dc:creator>Travis Alexander Yano</dc:creator>
  <dc:description/>
  <dc:language>en-US</dc:language>
  <cp:lastModifiedBy>瀬山</cp:lastModifiedBy>
  <dcterms:modified xsi:type="dcterms:W3CDTF">2023-03-28T00:40:09Z</dcterms:modified>
  <cp:revision>100</cp:revision>
  <dc:subject/>
  <dc:title>PowerPoint Presentation</dc:title>
</cp:coreProperties>
</file>