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2193588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600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9200" y="739440"/>
            <a:ext cx="657720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600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5AF82-1DE0-46CD-B2AF-9B5FB611D7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DEAF2-DE37-401C-9797-B05AB3240E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79200" y="739800"/>
            <a:ext cx="6577200" cy="370044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E5B3-AEE1-4326-8285-28E56EEFA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103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040" y="4130640"/>
            <a:ext cx="103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E80B-A076-4AC3-9C82-B25A31315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505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4400" y="1981080"/>
            <a:ext cx="505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130640"/>
            <a:ext cx="505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4400" y="4130640"/>
            <a:ext cx="505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5B77-2064-47DC-BF76-1FDCDA8AC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333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18280" y="1981080"/>
            <a:ext cx="333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22160" y="1981080"/>
            <a:ext cx="333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040" y="4130640"/>
            <a:ext cx="333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418280" y="4130640"/>
            <a:ext cx="333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22160" y="4130640"/>
            <a:ext cx="333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1A7C-71B0-485E-B89D-A77D746D1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040" y="1981080"/>
            <a:ext cx="10363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6C97-62CC-4B8A-BB4D-A0F563786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1036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4117-4DE0-44C3-95D4-02E2665F1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505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4400" y="1981080"/>
            <a:ext cx="505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D967-E63F-4112-B447-5A79FC814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BBC5-0F7F-4E1F-908A-6A5D62EA2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10363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032A-E140-4D22-B767-1530C4A47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505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4400" y="1981080"/>
            <a:ext cx="505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040" y="4130640"/>
            <a:ext cx="505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9EE2-1854-4FF0-81CF-2B32E6345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505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4400" y="1981080"/>
            <a:ext cx="505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4400" y="4130640"/>
            <a:ext cx="505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F0CC-059C-4A02-ABD3-B5B3D126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505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4400" y="1981080"/>
            <a:ext cx="505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040" y="4130640"/>
            <a:ext cx="103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1CDC-CA22-4D95-B468-FD171394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040" y="1981080"/>
            <a:ext cx="1036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6248520"/>
            <a:ext cx="2540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248520"/>
            <a:ext cx="2540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0B24C-0B5E-44DA-9F52-A8C7BC1BA0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63360" y="1331640"/>
            <a:ext cx="8745480" cy="2708280"/>
          </a:xfrm>
          <a:prstGeom prst="rect">
            <a:avLst/>
          </a:prstGeom>
          <a:solidFill>
            <a:srgbClr val="000080"/>
          </a:solidFill>
          <a:ln w="9360">
            <a:solidFill>
              <a:srgbClr val="00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fffff"/>
                </a:solidFill>
                <a:latin typeface="Arial"/>
              </a:rPr>
              <a:t>日本消化器内視鏡学会</a:t>
            </a:r>
            <a:br>
              <a:rPr sz="4800"/>
            </a:br>
            <a:r>
              <a:rPr b="1" lang="ja-JP" sz="4800" spc="-1" strike="noStrike">
                <a:solidFill>
                  <a:srgbClr val="ffffff"/>
                </a:solidFill>
                <a:latin typeface="Arial"/>
              </a:rPr>
              <a:t>ＣＯＩ 開示</a:t>
            </a:r>
            <a:br>
              <a:rPr sz="4000"/>
            </a:br>
            <a:r>
              <a:rPr b="1" lang="ja-JP" sz="1600" spc="-1" strike="noStrike">
                <a:solidFill>
                  <a:srgbClr val="ffffff"/>
                </a:solidFill>
                <a:latin typeface="Arial"/>
              </a:rPr>
              <a:t>　</a:t>
            </a:r>
            <a:br>
              <a:rPr sz="2400"/>
            </a:br>
            <a:r>
              <a:rPr b="1" lang="ja-JP" sz="2100" spc="-1" strike="noStrike">
                <a:solidFill>
                  <a:srgbClr val="ffff1f"/>
                </a:solidFill>
                <a:latin typeface="Times New Roman"/>
              </a:rPr>
              <a:t>発表者名（全員記載）：　○○　○○、 ○○　○○、・・・（◎発表責任者）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95080" y="4233600"/>
            <a:ext cx="9247320" cy="19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演題発表に関連し、開示すべき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I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関係にあ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　企業などはありません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正方形/長方形 4"/>
          <p:cNvSpPr/>
          <p:nvPr/>
        </p:nvSpPr>
        <p:spPr>
          <a:xfrm>
            <a:off x="318960" y="1020600"/>
            <a:ext cx="11541240" cy="5646960"/>
          </a:xfrm>
          <a:prstGeom prst="rect">
            <a:avLst/>
          </a:pr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正方形/長方形 3"/>
          <p:cNvSpPr/>
          <p:nvPr/>
        </p:nvSpPr>
        <p:spPr>
          <a:xfrm>
            <a:off x="103320" y="297000"/>
            <a:ext cx="23968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　</a:t>
            </a:r>
            <a:r>
              <a:rPr b="1" lang="ja-JP" sz="28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様式１－</a:t>
            </a:r>
            <a:r>
              <a:rPr b="1" lang="en-US" sz="28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B</a:t>
            </a:r>
            <a:r>
              <a:rPr b="1" lang="ja-JP" sz="28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　</a:t>
            </a:r>
            <a:r>
              <a:rPr b="1" lang="ja-JP" sz="24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4T17:39:07Z</dcterms:created>
  <dc:creator>Travis Alexander Yano</dc:creator>
  <dc:description/>
  <dc:language>en-US</dc:language>
  <cp:lastModifiedBy>瀬山</cp:lastModifiedBy>
  <dcterms:modified xsi:type="dcterms:W3CDTF">2023-03-28T00:14:31Z</dcterms:modified>
  <cp:revision>102</cp:revision>
  <dc:subject/>
  <dc:title>PowerPoint Presentation</dc:title>
</cp:coreProperties>
</file>